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3D1-01B3-4606-B0B2-46871B98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BD5-3037-44E9-B6F9-2CFCD04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8C7-789A-4021-BB4C-A8958815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408-7FE6-448D-81D8-71166C46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10A1-9841-415C-BFA6-15729994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38B0-4290-4A34-B8B1-07E77870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296-6877-4A5A-85FD-BC98A3DC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E91E-0400-4D9D-9FD6-542F4EE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108-8810-4EC6-A2B7-370858EF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C273-3A5F-4502-9800-861C4029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E25-C2BF-4AAF-9A6A-FC64B339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2A7-D2C0-4DAE-A445-96307785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07D6-7349-465F-A74D-F418D34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6003-B682-428E-A2CE-0F6772A0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2F53-95CA-4DAC-9890-77227B8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F75A-C283-43D4-846A-D9F70657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001A-1E00-4190-8F67-EAA5CB92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D0C-9298-4EB4-A8B3-EDA771D8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61F-0576-4550-8EA7-FFA76A2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04B-284C-4702-B91B-4D079B24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D77-A452-410C-894E-86E27813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F4C-8BEF-4354-8D37-F4F3187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F0E-2E52-491D-B062-55597FDA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416-5033-4E2C-A174-CAA5454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EF2-8F1C-4EB2-809C-7FB61B9F73C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BBE-106F-4D4D-BEFA-D61BD1B49E6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’s Laws of Heredity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Why we look the way we look..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Independent Assortment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enes for different traits ar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inherited independentl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 each other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there for each trait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an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oes a parent pass on to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fspring for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do we call the trait that i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upper or lower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bout the one 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sappear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Phenotype &amp; Genotyp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way an organism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ok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 hair or brown hai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 combin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a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Heterozygous &amp; Homozygou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if the two alleles for a trait ar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t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omozygous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if the two alleles for a trait are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ame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Dihybrid vs Monohybrid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Dihybrid 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rossing parents who differ in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wo traits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E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ith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e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onohybrid 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rossing parents who differ in only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ne trait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ith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om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onohybrid cross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What is </a:t>
            </a:r>
            <a:r>
              <a:rPr b="0" lang="en-US" sz="6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assing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n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haracteristic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traits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rom parents to offsprin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the study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 used pea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reproduc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sexuall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have two distinct,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e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, sex cells called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i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rait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easy to isol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Mendel </a:t>
            </a: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crossed</a:t>
            </a: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 them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the uniting of male and female 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ombining gametes from parents with different trait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id Mendel cross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rait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amet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etic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What Did Mendel Find?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e discovered differen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law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u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hat explain  factors affecting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Unit Factor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ch organism has two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r each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different forms of the same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located on chromosomes, they control how an organism develop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Dominanc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s 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dominant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upp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appear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ecessive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low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Segregation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wo alleles for a trai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ust separat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hen gametes are formed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 parent randomly pass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ly on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lele for each trait to each offspr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9:25:12Z</dcterms:created>
  <dc:creator>Newport News</dc:creator>
  <dc:description/>
  <dc:language>en-US</dc:language>
  <cp:lastModifiedBy>Pepe</cp:lastModifiedBy>
  <dcterms:modified xsi:type="dcterms:W3CDTF">2011-02-09T19:13:16Z</dcterms:modified>
  <cp:revision>13</cp:revision>
  <dc:subject/>
  <dc:title>Mendel’s Laws of Heredity</dc:title>
</cp:coreProperties>
</file>